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type.wav" ContentType="audio/x-wav"/>
  <Override PartName="/ppt/media/arrow.wav" ContentType="audio/x-wav"/>
  <Override PartName="/ppt/media/cashreg.wav" ContentType="audio/x-wav"/>
  <Override PartName="/ppt/media/coin.wav" ContentType="audio/x-wav"/>
  <Override PartName="/ppt/media/wind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0BAE-ACAB-45A4-8474-668D5A0C8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D902-2D62-4F61-A37D-9A83CB60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92DF-2E9A-453C-B9C4-CFBB27430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5B70-780F-4356-9F37-12BF7DC64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0816-32C2-4BA9-90F7-1D3C3C6F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7398-EF0F-4C0A-9CA2-DE0203FF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B3CF-5242-4282-973D-36498613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0C8A-A5A0-4962-9DA5-3B23617F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951F-23E9-481B-B766-3E6BC98A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4DAC-5246-4ED6-8A13-4EE5711A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54FE-2407-4357-807E-830D5E6F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0B38-021C-450D-80B5-35ACB983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1CEC-710A-4C5A-B0C4-FFCCD07C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7825-4434-46FA-BD3C-E95ED250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AEAD-6AC0-4998-A8BA-09441678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4163-467D-483A-A787-7F0CF1F7C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5924-7D03-4249-A19D-42328516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7DAC-C4DD-4EF5-98BA-FD03763F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18FA-096E-4BAF-9728-88B722E0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8B04-E682-443A-B62D-67C2D4FD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9FE6-4107-417D-BB5D-5F3D2CC9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E2C5-C21B-440C-984D-60F3C669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8652-C517-4B57-BB10-709C4828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B225-AA2B-4621-BB13-47F8602D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 algn="r" rtl="1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 algn="r" rtl="1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 algn="r" rtl="1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AC91-5010-4AD0-9AF9-CBC4DE429DCA}" type="datetime3">
              <a:rPr b="0" lang="ar-SA" sz="1200" spc="-1" strike="noStrike">
                <a:solidFill>
                  <a:srgbClr val="b2b2b2"/>
                </a:solidFill>
                <a:latin typeface="Tahoma"/>
              </a:rPr>
              <a:t>الجمعة 31 يوليو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486040" y="6504840"/>
            <a:ext cx="2895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323880" y="6205680"/>
            <a:ext cx="677880" cy="57600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14D9-DAF2-4E9E-A06F-F38E885E1045}" type="slidenum">
              <a:rPr b="1" lang="ar-SA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grpSp>
          <p:nvGrpSpPr>
            <p:cNvPr id="11" name=""/>
            <p:cNvGrpSpPr/>
            <p:nvPr/>
          </p:nvGrpSpPr>
          <p:grpSpPr>
            <a:xfrm>
              <a:off x="0" y="2286000"/>
              <a:ext cx="1066680" cy="1066680"/>
              <a:chOff x="0" y="2286000"/>
              <a:chExt cx="1066680" cy="1066680"/>
            </a:xfrm>
          </p:grpSpPr>
          <p:sp>
            <p:nvSpPr>
              <p:cNvPr id="12" name=""/>
              <p:cNvSpPr/>
              <p:nvPr/>
            </p:nvSpPr>
            <p:spPr>
              <a:xfrm>
                <a:off x="0" y="2286000"/>
                <a:ext cx="533520" cy="53352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33520" y="2819520"/>
                <a:ext cx="533160" cy="53316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0" y="2286000"/>
              <a:ext cx="53352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33520" y="281952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grpSp>
          <p:nvGrpSpPr>
            <p:cNvPr id="17" name=""/>
            <p:cNvGrpSpPr/>
            <p:nvPr/>
          </p:nvGrpSpPr>
          <p:grpSpPr>
            <a:xfrm>
              <a:off x="762120" y="152280"/>
              <a:ext cx="1981080" cy="1295640"/>
              <a:chOff x="762120" y="152280"/>
              <a:chExt cx="1981080" cy="1295640"/>
            </a:xfrm>
          </p:grpSpPr>
          <p:sp>
            <p:nvSpPr>
              <p:cNvPr id="18" name=""/>
              <p:cNvSpPr/>
              <p:nvPr/>
            </p:nvSpPr>
            <p:spPr>
              <a:xfrm>
                <a:off x="1981080" y="533520"/>
                <a:ext cx="381240" cy="38088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2120" y="1066680"/>
                <a:ext cx="380880" cy="38124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3000" y="685800"/>
                <a:ext cx="380880" cy="38088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362320" y="152280"/>
                <a:ext cx="380880" cy="38124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" name=""/>
            <p:cNvSpPr/>
            <p:nvPr/>
          </p:nvSpPr>
          <p:spPr>
            <a:xfrm>
              <a:off x="1981080" y="533520"/>
              <a:ext cx="38124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143000" y="685800"/>
              <a:ext cx="38088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6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144792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66EA-45D4-4CA3-90B7-AA4F0E6E6DBF}" type="datetime3">
              <a:rPr b="0" lang="ar-SA" sz="1200" spc="-1" strike="noStrike">
                <a:solidFill>
                  <a:srgbClr val="b2b2b2"/>
                </a:solidFill>
                <a:latin typeface="Tahoma"/>
              </a:rPr>
              <a:t>الجمعة 31 يوليو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5"/>
          </p:nvPr>
        </p:nvSpPr>
        <p:spPr>
          <a:xfrm>
            <a:off x="54100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3522600" y="6145200"/>
            <a:ext cx="736560" cy="636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F956-69D7-4108-86A3-3EF5D5590C68}" type="slidenum">
              <a:rPr b="1" lang="ar-SA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00"/>
                </a:solidFill>
                <a:latin typeface="Tahoma"/>
                <a:cs typeface="DecoType Naskh Variants"/>
              </a:rPr>
              <a:t>أضْرُبُ الخبَرِ</a:t>
            </a:r>
            <a:endParaRPr b="0" lang="en-US" sz="1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ff00"/>
                </a:solidFill>
                <a:latin typeface="Tahoma"/>
                <a:cs typeface="DecoType Naskh Variants"/>
              </a:rPr>
              <a:t>علمُ المَعَانِى</a:t>
            </a:r>
            <a:endParaRPr b="0" lang="en-US" sz="96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2D77-4B18-4BF2-A247-B636A9C4A27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ACACF86-02E6-4CEC-831E-15EC4D1B3E2D}" type="datetime3">
              <a:rPr lang="en-US"/>
              <a:t>July 31, 2026</a:t>
            </a:fld>
          </a:p>
        </p:txBody>
      </p:sp>
    </p:spTree>
  </p:cSld>
  <p:transition>
    <p:wheel spokes="1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98064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ffff00"/>
                </a:solidFill>
                <a:uFillTx/>
                <a:latin typeface="Tahoma"/>
                <a:ea typeface="DecoType Naskh Variants"/>
              </a:rPr>
              <a:t>1</a:t>
            </a:r>
            <a:r>
              <a:rPr b="0" lang="ar-SA" sz="6000" spc="-1" strike="noStrike" u="sng">
                <a:solidFill>
                  <a:srgbClr val="ffff00"/>
                </a:solidFill>
                <a:uFillTx/>
                <a:latin typeface="Tahoma"/>
                <a:ea typeface="DecoType Naskh Variants"/>
              </a:rPr>
              <a:t>- الابتدائى 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2349000"/>
            <a:ext cx="7086600" cy="38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ذى يكون خالياً من المؤكدات لأنَّ المخاطب خالى الذهن من الحكم الذى تضمَّنه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قال تعالى : </a:t>
            </a: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بَلْ فعَلهُ كبيرُهُمْ هذ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قول المتنبِّى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أنَا الذى نظرَ الأعْمَى إلى أدَب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                      و أسْمَعَتْ كلمَاتِى مَنْ بهِ صَمَم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4406-C28F-4889-8268-9EEEE3B9F40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FFEC7-92AE-4E9C-B553-D2377F1B9A6D}" type="datetime3">
              <a:rPr lang="en-US"/>
              <a:t>July 31, 2026</a:t>
            </a:fld>
          </a:p>
        </p:txBody>
      </p:sp>
    </p:spTree>
  </p:cSld>
  <p:transition>
    <p:pull dir="d"/>
    <p:sndAc>
      <p:stSnd>
        <p:snd r:embed="rId1" name="type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قال أبو تمَّام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يَنالُ الفتىَ مِنْ عَيْشِهِ و هوَ جَاهِل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                  و يُكدِى الفتى فِى دَهْرهِِ و هوَ عَالِم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و لو كانتْ الأرْزَاقُ تجرى عَلى ا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                   حِجَا هَلكْنَ إذاً مِنْ جَهْلِهنَّ البَهَائـِـمُ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10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ff00"/>
                </a:solidFill>
                <a:latin typeface="Tahoma"/>
                <a:cs typeface="DecoType Naskh Extensions"/>
              </a:rPr>
              <a:t>هذه الأخبار لا تشتمل على مؤكدات و يسمَّى هذا الضرب من الأخبار ( </a:t>
            </a:r>
            <a:r>
              <a:rPr b="0" lang="ar-SA" sz="40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ابتدائيَّاً</a:t>
            </a:r>
            <a:r>
              <a:rPr b="0" lang="ar-SA" sz="4000" spc="-1" strike="noStrike">
                <a:solidFill>
                  <a:srgbClr val="00ff00"/>
                </a:solidFill>
                <a:latin typeface="Tahoma"/>
                <a:ea typeface="DecoType Naskh Extensions"/>
              </a:rPr>
              <a:t> )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F39E-7B4A-428B-9F55-AAC65E6251D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C14301-C338-4CAE-A3ED-B5C39C1963FB}" type="datetime3">
              <a:rPr lang="en-US"/>
              <a:t>July 31, 2026</a:t>
            </a:fld>
          </a:p>
        </p:txBody>
      </p:sp>
    </p:spTree>
  </p:cSld>
  <p:transition>
    <p:strips dir="rd"/>
    <p:sndAc>
      <p:stSnd>
        <p:snd r:embed="rId1" name="arrow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907920"/>
            <a:ext cx="7086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00ff00"/>
                </a:solidFill>
                <a:uFillTx/>
                <a:latin typeface="Tahoma"/>
                <a:ea typeface="DecoType Naskh Variants"/>
              </a:rPr>
              <a:t>2</a:t>
            </a:r>
            <a:r>
              <a:rPr b="0" lang="ar-SA" sz="6000" spc="-1" strike="noStrike" u="sng">
                <a:solidFill>
                  <a:srgbClr val="00ff00"/>
                </a:solidFill>
                <a:uFillTx/>
                <a:latin typeface="Tahoma"/>
                <a:ea typeface="DecoType Naskh Variants"/>
              </a:rPr>
              <a:t>- الطلبى 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4920" y="2060280"/>
            <a:ext cx="70866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ذى يتردَّد فيه المخاطب و لا يعرف مدى صحته و يؤكد بمؤكد واح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“ </a:t>
            </a: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ذْ قالوا ليُوسُفُ و أخُوهُ أحَبُّ إلى أبينَا مِنَّا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إنَّ العُيُونَ التِى فِى طرْفِهَا حَوَر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                             قتلننَا ثمَّ لمْ يُحْيينَ قتلانـَـــــــا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قدْ يَعْلمُ الله المُعَوِّقينَ مِنكمْ و القائِلِينَ لإخوَانِهمْ هَلمَّ إليْنَا و لا يَأتونَ البَأسَ إلا قليلا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7389-A97B-4EC4-B6CB-028BACE40A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E450A-7DC1-4262-B4A7-7D80844F2ECE}" type="datetime3">
              <a:rPr lang="en-US"/>
              <a:t>July 31, 2026</a:t>
            </a:fld>
          </a:p>
        </p:txBody>
      </p:sp>
    </p:spTree>
  </p:cSld>
  <p:transition>
    <p:strips dir="rd"/>
    <p:sndAc>
      <p:stSnd>
        <p:snd r:embed="rId1" name="cashreg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سرى الرفاء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نَّ البنَاءَ إذا مَا انْهَدَّ جَانِبُهُ    لمْ يَأمَنِ النَّاسُ أنْ يَنْهَدَّ بَاقِي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أبو العتاهي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نِّى رأيْتُ عَوَاقِبَ الدنيَا        فترَكتُ مَا أهْوَى لِمَا أخشَ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شريف الرَّضى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قدْ يَبْلغُ الرَّجُلُ الجَبَانُ بمَالِهِ   مَا ليْسَ يَبْلغهُ الشجَاعُ المُعْدم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9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يلاحظ فى هذه الأمثلة أنَّ المخاطب له بالحكم إلمام قليل يمتزج بالشكِّ و لهذا أكد الخبر بمؤكد واحد و يسمَّى هذا الضرب من الأخبار ( </a:t>
            </a:r>
            <a:r>
              <a:rPr b="0" lang="ar-SA" sz="3600" spc="-1" strike="noStrike">
                <a:solidFill>
                  <a:srgbClr val="00ff00"/>
                </a:solidFill>
                <a:latin typeface="Tahoma"/>
                <a:cs typeface="DecoType Naskh Extensions"/>
              </a:rPr>
              <a:t>طلبيَّاً</a:t>
            </a:r>
            <a:r>
              <a:rPr b="0" lang="ar-SA" sz="3600" spc="-1" strike="noStrike">
                <a:solidFill>
                  <a:srgbClr val="ffff00"/>
                </a:solidFill>
                <a:latin typeface="Tahoma"/>
                <a:ea typeface="DecoType Naskh Extensions"/>
              </a:rPr>
              <a:t> ) 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06E5-08D6-4277-88DE-EC762976B3D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16BDA6-CDD9-441B-8B2C-2081F01C6633}" type="datetime3">
              <a:rPr lang="en-US"/>
              <a:t>July 31, 2026</a:t>
            </a:fld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907920"/>
            <a:ext cx="7086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ff0066"/>
                </a:solidFill>
                <a:uFillTx/>
                <a:latin typeface="Tahoma"/>
                <a:ea typeface="DecoType Naskh Extensions"/>
              </a:rPr>
              <a:t>3</a:t>
            </a:r>
            <a:r>
              <a:rPr b="0" lang="ar-SA" sz="4800" spc="-1" strike="noStrike" u="sng">
                <a:solidFill>
                  <a:srgbClr val="ff0066"/>
                </a:solidFill>
                <a:uFillTx/>
                <a:latin typeface="Tahoma"/>
                <a:ea typeface="DecoType Naskh Extensions"/>
              </a:rPr>
              <a:t>- الإنكارى 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9000"/>
            <a:ext cx="70866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و هو الذى ينكره المخاطب إنكاراً يحتاج إلى أن يؤكد بأكثر من مؤك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إليْكمْ لمُرْسَلونَ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كمْ لذائِقو العَذابِ الألِيم ”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لتُبْلوُنَّ فى أمْوَالِكمْ و أنفسِكم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لنصْفحُ عَنْ مَجَاهِل قوْمِنَا      و نقِيمُ سَالِفةَ العَدُوِّ الأصْيَ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BD89-72E2-4E15-89C1-64630781F1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C792A3-BDAB-4AE5-A0D8-E74515020E6A}" type="datetime3">
              <a:rPr lang="en-US"/>
              <a:t>July 31, 2026</a:t>
            </a:fld>
          </a:p>
        </p:txBody>
      </p:sp>
    </p:spTree>
  </p:cSld>
  <p:transition>
    <p:comb dir="horz"/>
    <p:sndAc>
      <p:stSnd>
        <p:snd r:embed="rId1" name="wind.wav"/>
      </p:stSnd>
    </p:sndAc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حسان بن ثابت – رضى الله عنه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و إنِّى لحُلوٌ تعْترينِى مَرَارَةٌ     و إنِّى لترَّاكٌ لِمَا لمْ أعَوَّ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أرجانى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لفِى زمَنِ مَلآنَ مِنْ فِتن     فلا يُعَابُ بهِ مَلانَ مِنْ فَرَ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لبيد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و لقدْ عَلِمْتُ لتأتِيَنَّ مَنِيَّتى      إنَّ المَنايَا لا تطِيشُ سِهَامُهَ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10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فى هذه الطائفة المخاطب منكر للحكم جاحد له و لذلك أكد بأكثر من مؤكد و يسمَّى هذا الضرب</a:t>
            </a:r>
            <a:r>
              <a:rPr b="0" lang="ar-SA" sz="4000" spc="-1" strike="noStrike">
                <a:solidFill>
                  <a:srgbClr val="ff0066"/>
                </a:solidFill>
                <a:latin typeface="Tahoma"/>
                <a:ea typeface="DecoType Naskh Extensions"/>
              </a:rPr>
              <a:t> ( إنكاريَّاً )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D779-440F-4A6F-BA2E-9003BE3E4E4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D595D-6683-47DB-8F90-EFAD3E1030AD}" type="datetime3">
              <a:rPr lang="en-US"/>
              <a:t>July 31, 2026</a:t>
            </a:fld>
          </a:p>
        </p:txBody>
      </p:sp>
    </p:spTree>
  </p:cSld>
  <p:transition>
    <p:push dir="r"/>
    <p:sndAc>
      <p:stSnd>
        <p:snd r:embed="rId1" name="type.wav"/>
      </p:stSnd>
    </p:sndAc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733840" y="1500120"/>
            <a:ext cx="4430520" cy="466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ع أطيب تمنيَّاتى بالتوفيق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أ / مجدى مختار إبراهيم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درس اللغة العربيَّة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435D-C6A8-4DF1-AFE8-5ABF773B0AF3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D411B3-5929-4280-AE1D-073DCD79CA2D}" type="datetime3">
              <a:rPr lang="en-US"/>
              <a:t>July 31, 2026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22:31:17Z</dcterms:created>
  <dc:creator>magdy                       </dc:creator>
  <dc:description/>
  <dc:language>en-US</dc:language>
  <cp:lastModifiedBy>magdy</cp:lastModifiedBy>
  <dcterms:modified xsi:type="dcterms:W3CDTF">2008-11-16T18:06:01Z</dcterms:modified>
  <cp:revision>12</cp:revision>
  <dc:subject/>
  <dc:title>التولالالالالالالاصية بخط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